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D44-880C-4DB9-B25F-327356F5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817-2952-4D2F-9717-0CFBC8C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5F4AC-1B86-4AB9-A537-D697786C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D5C36-1985-460E-BB45-F85EF40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84819-5EEF-4E54-A2EF-8073D9C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6AE77-CDC2-4019-B2C9-07AABCE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D23C4-A417-411B-85D3-DE139EB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0EA1-318F-4DC2-9B06-12B8AE3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C04ED-6671-4303-8FAE-46CE99EF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3FBCB-CE19-496D-8E7F-C67F7E42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4FE7-CB14-4124-A72B-93395E60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CBDE9-A017-4866-863F-333A0C19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EE1-B13B-4BD4-BC42-6C5DC162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F8A90-63BC-4BA1-8B8F-92F2465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BBC7A-F68C-4D32-8FB0-14A3F10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7194-CB81-4C00-8733-2552EF69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CA80-A1F7-4F73-9A53-93B3EC40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47040-2046-48C0-9F70-002906E2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E3E5E-CF94-477A-AA8B-A5F8238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F137-944F-46FB-8271-7BBB358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191EE-1B95-4390-9102-34255C3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7D6FA-AD31-44C8-AC39-56603E0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FB507-40EE-4806-BC50-EB3B03B7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466-4CFC-41C4-BAFF-61AA35A1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37F04-2941-455C-B11D-282E92AD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B194-5582-426B-9BB3-0EBB7163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B050B-2473-481B-BC15-EB4CA8D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342C-1A3F-48AF-A831-E785F4A4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E2581-9DD6-4E98-8CE5-3C4930F1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DEC4-7585-4A2C-80DC-8B2D985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9E5F-E80C-408A-90D5-5A99CA2C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31A2E-BC71-4269-A3E4-56BE1B4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61B1-072D-4394-8378-2426D51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444C-EBE1-4E5E-8764-D5F47B0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F6C1-5A3C-4179-85D9-5514C9E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7D0D7-352C-4B83-8378-BF01995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A558-02BA-411C-B44C-0B9143C3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F9742-47C7-4ABA-A61C-F77592A1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7570E-56CA-43EA-9CDE-9322B36F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AD5D7-B696-4B63-A207-88513547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2C80A-52D6-46B2-9CA3-89C8FDE7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122D0-E5F4-4D2C-B80B-473F58C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B5010-CE85-418E-B391-231E4FC3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FB630-5898-407C-B747-9572E7BA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3C2B4-5BCB-45C0-B7AD-1CBBE4C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9A7D-852D-404A-8202-82E4CF8C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4B526-9FCA-4001-BDBC-7CDE9F0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6768B-C772-4D3F-B4B0-11011FA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95772-BC4A-4312-9BC7-B4664C6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EC4B4-5408-4DE8-B885-42A8C376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0E0C0-F612-4F88-8380-266F592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D1834-3D97-4715-B8F7-DC46D278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42F6B-9C2F-46DF-A181-ACDD32A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0B46C-E08D-4C02-B5EC-5D77A0D5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6EE85-776E-4A67-BFB4-D879127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13AFF-2755-472F-9D84-B46B7F6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CD0-8E14-4A54-AFE3-33DEE454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B0ED6-3D5B-49B2-BFC3-681FA75C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826D1-BF57-410E-867A-A97D981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4C90A-6369-472D-8131-30A3E67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92135-6262-403D-B26F-C83B157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D301F-D1B9-4129-B05C-FC76F52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9DC34-C729-40F9-A660-EF652281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DEEC7-4F9B-4F82-BA67-AFF4EEA0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CD2EB-00FA-49FC-9991-5D3A80FA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2D3AF-BAEC-4D60-8B9E-CD67782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343E4-8E5D-4231-B5CA-25244C2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AA78-FF88-42A4-A5FD-E2944B05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D5151-E048-4973-9852-880D2BAC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287E3-D3A0-4449-B38C-4861B1A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E04B0-D47A-4F2E-9F43-C8E8872E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0B134-7AA2-431D-911D-781AAE9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19924-70F4-4F49-8350-277821F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B30AC-0F81-4351-81DD-4EC9FF6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09A53-4995-4551-9325-83DF876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29971-02B1-4C97-ADB7-A13F184E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54484-7743-4149-894C-38545251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93797-9DE5-402E-B703-BEB2FAD0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DF6-EE9B-48EA-B60D-2789039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0527F-E873-4CF2-8562-3545E01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2D511-2E1E-4F13-AD70-23659C45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43FAA-BD58-4CBE-A499-91F6766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AF7C2-6EDA-4197-829C-ACF1A1AC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E527F-B7B1-448D-A257-B7B3AAC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7677B-8B95-4747-A084-E90B827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260F7-188E-4B94-99E3-400187E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1985E-70DE-4EDF-81BF-98C1E37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941C4-15AA-4F5C-99AF-5CC6843C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688E6-13F3-4B9C-A97E-F957E09F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228-C814-443D-8678-F4FD6A0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6FD11-F4C9-4FEE-A190-5979D532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21414-4F5C-4395-B83A-A2CEF826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EE750-3A5F-41A5-8CB3-4BD3865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C22FA-33E3-4ED8-9541-267FB8D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BC3C0-07D4-47D8-A858-4057534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04B7E-E432-4494-B8F6-D5A6E24A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2BBB4-F517-4042-A633-7141E0ED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5245A-BD38-48DB-8966-84103F5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06479-C3C0-427E-9F4B-58646E9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41608-E59D-4745-BB29-5F93338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D52-DA55-462B-8AAB-D85D512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45696-1152-419B-B216-9CCAAFC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8BF46-B529-42C6-A369-F652B9A8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243F5-4FEE-434E-BC9F-CFC6430D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5237A-5928-4767-8365-16B76A58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7761C-7EE0-4EBE-AAFC-0F882F9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ED478-8004-422E-820F-17AB92D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0D5DF-A916-472F-80A1-E782DCF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6203E-867F-4303-9407-5FC0EB62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83D2C-B753-415A-8738-D5837D4D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AE1FA-0EEF-4594-B222-2EB9C19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A9F-F532-4EFB-9195-41C3702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702F-0C23-4809-8577-6AD8A22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4C726-3B92-4AC0-BEAB-82054EC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5E6AB-E068-4668-A028-03E6222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0ABEA-5856-4164-9028-519D4C4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DA030-AF17-4BB9-945D-1029B47B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87FE9-0B31-43EA-B399-121DF87B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E204D-62DB-43C5-9068-36ACC82E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36540-FBD7-4A52-8A01-6DF2818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840BB-A4A2-4B6B-9360-E50914E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3BA6F-9FDB-4FCB-98F7-A516C9F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A9B6E-4BF6-4037-8A08-4CCE7B6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5ED-A8CC-49D1-8664-F707224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AA7EE-1244-4D7A-8731-DF73BD5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35285-67C8-4F26-8ED1-DD9B2A1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163EE-0234-4807-9A63-0DB7438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697FA-C16B-4019-8C96-25D50A30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C7316-573A-4771-9501-356E331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D96CF-1E8D-4F73-93BF-355F8CA1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881F4-1685-4F67-88DD-CAABBC74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00208-2B89-41A2-B5C6-0D18B130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2DECB-323C-45D2-9A06-23456C7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6D329-E5B0-465E-994E-D2E4E006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1B4-C7AB-434B-B2E9-7D1D8500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0D1FB-2C8B-40BD-8E3B-4788E993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90875-2D8A-47B3-A742-D73C58C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0F8D0-C5A5-4E07-9987-4EC21654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C8423-AF00-4392-BC07-A950B88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539CB-4AC2-415D-992B-FC07B6D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477F9-16D9-45FD-A3E7-75DD1701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FA09F-6417-4942-98E9-E934746B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9D74B-2C2B-4C17-AA7E-1637AADC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40A3B-E3BF-4FC0-AAFD-C0CA1C15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E85E7-7267-4F05-81CA-FFFB97C6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6F10-A3DB-4AFA-AEA7-0156D97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84DDC-B032-496B-8F8C-FF586152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BE417-E434-4C66-9226-464B8B3A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7C2E0-6947-480A-85B5-00B8DE6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BF7269-CCD2-4670-A325-7B1CD65A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6E2EB-192B-472D-B7F7-66DEE22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7A1FC-FFBF-4684-9E96-3C9B629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6E22E-3676-4604-AC08-2D69525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16E32-C4D0-4D49-9E9B-ECF3348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FC98F-CFDA-41EC-8BB6-D359EEE9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DBF87-E6DE-45BB-A608-60A7A88F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CD27-8E65-4C2A-A12E-9AA6208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C6A8B-250A-456F-8C0C-C8207ACF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E2A84-9D6E-4219-8D07-029627F7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7BFD7-8294-45FE-8753-29B11D1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EF88B-5DCD-4EB0-96FF-C8541E9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3674D-68E8-49BF-874F-D409B9C4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E95095-FE9D-43D5-BE78-6D198217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DD376-BC3C-47D2-8AF4-A5C069E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D5271-9A8C-456F-ABE4-9C1A841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62A3A-5BD3-4DB4-A482-5A8CCE3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350E1-88F9-4845-A368-EBDA9F3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5F41-9E18-430F-9499-4B204332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D590B2-5E7F-437E-B391-1B30C9F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1EBF7-1639-43ED-8599-A5B0EAD2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078C8-9141-42E0-BA06-46B73D96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42D1-8E9B-4CA6-9D5F-8A04C10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DC06-4648-49D4-9874-23F098D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7B0D-D2B4-4ED6-A7C0-9F0B75D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2278-7252-4D5D-A085-7AF7779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F53-7103-4FA2-9AFD-5DA038B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F6E6-2387-4683-84B2-65117144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8129-7CE7-4D92-8EAC-9A09814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B9C7-1C63-4F41-BEBD-48CCE5A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593E-334E-4B75-BF71-ABE6BE8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E010-24A4-42A8-8FE3-9B95E7D7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0185-FE89-44E1-BD31-0526069D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A118-D2BB-443C-AB93-DF8C0150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5BC6-9044-4EA8-B457-2D9D8B0A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C4CD-5E28-49BF-A8FE-99360B1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DB8B-CF68-4B45-9A03-6591DC6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C09-3C4E-4E19-9404-09F1D10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0054-9E6C-422C-A5C8-7E3759B4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4213-1BA7-4CB5-BFE8-F9989A0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D48D-CF54-4FBC-A4F7-24A6DB3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CFCA-AA7B-460E-95E9-EE8FD1D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D497-47FA-40F6-A9B4-80146E1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81C1-4DBC-411E-B396-CAE2C27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4287-64AE-4CAA-AED5-231129D6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F0D8-C61A-4CA5-A3B4-9E91F86D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E2DC-C91B-4A0F-8134-0E192853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21E93-81D3-4932-BA85-7F071532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6C7-4F4E-4487-A778-4F2F0EB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3B9B-C162-423F-A8F9-EDA70655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E3FC-7F75-497D-A8DD-1DEB538D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0621-72EB-4942-B9F4-DDFA2B2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3568-A1C9-4248-A87D-E99E3A6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D240-CF71-4DDB-8561-86F6E43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8661-75F3-4736-B4EA-93B7846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C40FE-80F9-4333-8D64-F9BC2C8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649D-66D2-4CE3-951E-631FB0A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790D-2EA1-4A57-87D9-E19BE10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3796-73F3-4B13-B5D7-F0AA5D6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AD1-A351-4FEE-8F4B-07DEFA30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4321-92B1-49D3-9C49-1FA033BF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31AD-0D4B-4A4E-9EE6-90546BFC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28E3-8195-4472-B087-94D0CB74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6E32-0219-4DBC-9A9D-635D7F8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E64D6-7571-48CE-AC44-605D4B73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FD88-955D-40A3-915E-28E477F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6164-94B4-415B-914F-0541CEE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E208-4F17-4A75-8B4F-CEA4788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D1D4-4532-4DD6-8E3F-BF1FE28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F97C-BE4E-4006-BABA-D4EDE3E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5C7-8123-4A7D-B6E3-C30F112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7E42-89B3-4CD3-BF8C-4FC793C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7BD3-3477-4744-B7E6-50A55828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2441-25FD-4449-85DB-D015C4F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305F-5ECE-494E-90CB-989D8682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05BE3-DCF3-40D2-8036-8114EEA0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8C06-F830-4F15-AE14-4971121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5244B-8862-48B8-8FA3-5DA00A0D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4559-3E5F-4355-B3A5-72BFDA0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D0AC-71E2-42AA-A4B0-40CA3E6C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9801-67EA-4281-B822-034714A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F5A-4540-4688-8CBC-BB83593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7108-0C88-419F-8701-13BBFA9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C895-6D10-46AC-8CD9-EF863CE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691A-72A3-495D-B1E5-C2CE2AF7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E54C-2F11-4C4F-B78F-C00CDEA9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77E3-95CD-4DAE-B6BB-578E77B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B5EDB-C71C-4746-9AA4-E18704D4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0B2AC-359E-4DED-96E8-06BE21C0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1EC9-153E-49B7-A492-BE4D6E9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CDEA8-E987-4451-91D2-A6BF6E8E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9917-808C-443E-8A14-33D969E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5B8-CAC8-402D-830E-7A43A62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00A8-B9DE-41A9-BE2B-30FBE69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C7B3E-A570-4F75-9D24-0809480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B72A-9CD4-44D4-ADA0-0120EDA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0F5EB-0C78-429E-A7B7-CA908A8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3EA61-E54A-4EC0-8C58-617504A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8DB6-E118-4671-8899-D0777D9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8027-AA55-4747-8C80-D7F33D2E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A6E1D-3308-4642-BB85-A35DDE49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9CD22-6B32-4D7B-B260-7390BAA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44B3D-64CE-4FDF-AFF9-828D64F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53BF-7C06-45A8-A65D-E9115FEA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B0EF-18DE-42A7-9574-24DA2FC2B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7A4F-58FC-4AF1-905C-4C9E06E49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08E-514C-4DEF-8008-DE7890EE0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909-4606-449F-A9DF-E16CA6BC5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84E8-DD72-4498-AF64-D33CCA6BCE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8EDD-5688-4B4F-AE55-7E8540C38E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E37-A7C5-49A8-A084-D73DAC053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45F-8ED1-43E8-BD56-571576FB9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A3F-D0E2-48B8-B479-808CCFEAE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E49-A7E3-4FB5-82E8-BA7766EC8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AD6-F0F2-41EB-8F06-8526BA486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3C3-9725-441A-ACC4-577D773BEA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19A-73CD-4F0E-963F-25D3EC8BC1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38F9-5EDE-4391-9413-AD446C6CD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5B4F-69F9-4D58-9D3E-2FF40E44C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C1D-08E7-4DEC-9C5C-BE0785DC4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25A-F99F-4275-8955-53E93C1C7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DE4-142F-4697-B399-59E034487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EFA-14D8-4C8E-BE53-18F9D97F4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D15-F3FA-4A66-8772-9153B9467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108-4E1A-41C2-89B0-4005D7550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C2F8-3CAB-4958-B07E-CB25C74D1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EF98-0680-4A90-ADE7-2532BBA78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02D-57DA-4121-A467-327E94685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FA8B-4365-4265-BA02-B2E723D9A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4CC-E0E5-43D1-A669-8E6A68F02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5788-AF37-4892-AC71-CD66E8D2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256-F4F7-4CFB-8DF3-55C587861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DEA-9D3B-47A8-B5D6-98AEBB1C2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81D-5C53-4B4B-9DFD-D4C2EF4AE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075B-7CC7-4C52-B2B0-E63219561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ABD-061A-4CDF-BC8E-71E7A63F5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B70-A6E7-4187-A95E-D64A9EED0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1255-ECCE-43E6-B461-9408581A8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5872-555C-46A8-BEFE-5ECF55890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BC37-C7C5-4E2F-B5A6-F59721502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ED67-2AE8-46A4-9804-AF500F517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C1A-05CD-4336-8031-6FC94C986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FF42-2D6E-4ECA-804E-D8E933070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1.png"/><Relationship Id="rId71" Type="http://schemas.openxmlformats.org/officeDocument/2006/relationships/image" Target="../media/image11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11.png"/><Relationship Id="rId77" Type="http://schemas.openxmlformats.org/officeDocument/2006/relationships/image" Target="../media/image11.png"/><Relationship Id="rId78" Type="http://schemas.openxmlformats.org/officeDocument/2006/relationships/image" Target="../media/image11.png"/><Relationship Id="rId79" Type="http://schemas.openxmlformats.org/officeDocument/2006/relationships/image" Target="../media/image11.png"/><Relationship Id="rId80" Type="http://schemas.openxmlformats.org/officeDocument/2006/relationships/image" Target="../media/image11.png"/><Relationship Id="rId81" Type="http://schemas.openxmlformats.org/officeDocument/2006/relationships/image" Target="../media/image11.png"/><Relationship Id="rId82" Type="http://schemas.openxmlformats.org/officeDocument/2006/relationships/image" Target="../media/image11.png"/><Relationship Id="rId83" Type="http://schemas.openxmlformats.org/officeDocument/2006/relationships/image" Target="../media/image11.png"/><Relationship Id="rId84" Type="http://schemas.openxmlformats.org/officeDocument/2006/relationships/image" Target="../media/image14.png"/><Relationship Id="rId85" Type="http://schemas.openxmlformats.org/officeDocument/2006/relationships/image" Target="../media/image15.png"/><Relationship Id="rId8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2119320" y="3143160"/>
            <a:ext cx="48099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04760" y="1762200"/>
            <a:ext cx="8934480" cy="3524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3357720" y="2786040"/>
            <a:ext cx="2981160" cy="2543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571680" y="4929120"/>
            <a:ext cx="15001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1" descr=""/>
          <p:cNvPicPr/>
          <p:nvPr/>
        </p:nvPicPr>
        <p:blipFill>
          <a:blip r:embed="rId1"/>
          <a:stretch/>
        </p:blipFill>
        <p:spPr>
          <a:xfrm>
            <a:off x="123840" y="1085760"/>
            <a:ext cx="8896320" cy="5200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" descr=""/>
          <p:cNvPicPr/>
          <p:nvPr/>
        </p:nvPicPr>
        <p:blipFill>
          <a:blip r:embed="rId2"/>
          <a:stretch/>
        </p:blipFill>
        <p:spPr>
          <a:xfrm>
            <a:off x="7643880" y="5643720"/>
            <a:ext cx="1352520" cy="923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3"/>
          <a:stretch/>
        </p:blipFill>
        <p:spPr>
          <a:xfrm>
            <a:off x="2000160" y="164304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4"/>
          <a:stretch/>
        </p:blipFill>
        <p:spPr>
          <a:xfrm>
            <a:off x="2928960" y="164304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5"/>
          <a:stretch/>
        </p:blipFill>
        <p:spPr>
          <a:xfrm>
            <a:off x="3786120" y="164304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6"/>
          <a:stretch/>
        </p:blipFill>
        <p:spPr>
          <a:xfrm>
            <a:off x="4643280" y="16430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7"/>
          <a:stretch/>
        </p:blipFill>
        <p:spPr>
          <a:xfrm>
            <a:off x="642960" y="21178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8"/>
          <a:stretch/>
        </p:blipFill>
        <p:spPr>
          <a:xfrm>
            <a:off x="1546200" y="21067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9"/>
          <a:stretch/>
        </p:blipFill>
        <p:spPr>
          <a:xfrm>
            <a:off x="1992240" y="21146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0"/>
          <a:stretch/>
        </p:blipFill>
        <p:spPr>
          <a:xfrm>
            <a:off x="2428920" y="21146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1"/>
          <a:stretch/>
        </p:blipFill>
        <p:spPr>
          <a:xfrm>
            <a:off x="2857680" y="211788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2"/>
          <a:stretch/>
        </p:blipFill>
        <p:spPr>
          <a:xfrm>
            <a:off x="3332160" y="20829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3"/>
          <a:stretch/>
        </p:blipFill>
        <p:spPr>
          <a:xfrm>
            <a:off x="4214880" y="211284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4"/>
          <a:stretch/>
        </p:blipFill>
        <p:spPr>
          <a:xfrm>
            <a:off x="4660920" y="212076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5"/>
          <a:stretch/>
        </p:blipFill>
        <p:spPr>
          <a:xfrm>
            <a:off x="660240" y="25956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6"/>
          <a:stretch/>
        </p:blipFill>
        <p:spPr>
          <a:xfrm>
            <a:off x="1106640" y="260352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17"/>
          <a:stretch/>
        </p:blipFill>
        <p:spPr>
          <a:xfrm>
            <a:off x="2000160" y="25765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18"/>
          <a:stretch/>
        </p:blipFill>
        <p:spPr>
          <a:xfrm>
            <a:off x="2446200" y="25844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19"/>
          <a:stretch/>
        </p:blipFill>
        <p:spPr>
          <a:xfrm>
            <a:off x="2882880" y="25844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0"/>
          <a:stretch/>
        </p:blipFill>
        <p:spPr>
          <a:xfrm>
            <a:off x="3767040" y="260496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21"/>
          <a:stretch/>
        </p:blipFill>
        <p:spPr>
          <a:xfrm>
            <a:off x="4211640" y="261288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22"/>
          <a:stretch/>
        </p:blipFill>
        <p:spPr>
          <a:xfrm>
            <a:off x="4649760" y="261288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23"/>
          <a:stretch/>
        </p:blipFill>
        <p:spPr>
          <a:xfrm>
            <a:off x="642960" y="306864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24"/>
          <a:stretch/>
        </p:blipFill>
        <p:spPr>
          <a:xfrm>
            <a:off x="1089000" y="307800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25"/>
          <a:stretch/>
        </p:blipFill>
        <p:spPr>
          <a:xfrm>
            <a:off x="1525680" y="3078000"/>
            <a:ext cx="285480" cy="287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26"/>
          <a:stretch/>
        </p:blipFill>
        <p:spPr>
          <a:xfrm>
            <a:off x="2428920" y="30463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27"/>
          <a:stretch/>
        </p:blipFill>
        <p:spPr>
          <a:xfrm>
            <a:off x="3303720" y="3078000"/>
            <a:ext cx="285480" cy="287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28"/>
          <a:stretch/>
        </p:blipFill>
        <p:spPr>
          <a:xfrm>
            <a:off x="3740040" y="307800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29"/>
          <a:stretch/>
        </p:blipFill>
        <p:spPr>
          <a:xfrm>
            <a:off x="4203720" y="3079800"/>
            <a:ext cx="285840" cy="288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30"/>
          <a:stretch/>
        </p:blipFill>
        <p:spPr>
          <a:xfrm>
            <a:off x="4643280" y="30463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31"/>
          <a:stretch/>
        </p:blipFill>
        <p:spPr>
          <a:xfrm>
            <a:off x="660240" y="35416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32"/>
          <a:stretch/>
        </p:blipFill>
        <p:spPr>
          <a:xfrm>
            <a:off x="1106640" y="3549600"/>
            <a:ext cx="285480" cy="289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33"/>
          <a:stretch/>
        </p:blipFill>
        <p:spPr>
          <a:xfrm>
            <a:off x="1542960" y="354960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34"/>
          <a:stretch/>
        </p:blipFill>
        <p:spPr>
          <a:xfrm>
            <a:off x="1971720" y="35528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35"/>
          <a:stretch/>
        </p:blipFill>
        <p:spPr>
          <a:xfrm>
            <a:off x="2857680" y="354960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36"/>
          <a:stretch/>
        </p:blipFill>
        <p:spPr>
          <a:xfrm>
            <a:off x="3303720" y="355932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37"/>
          <a:stretch/>
        </p:blipFill>
        <p:spPr>
          <a:xfrm>
            <a:off x="3740040" y="35593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38"/>
          <a:stretch/>
        </p:blipFill>
        <p:spPr>
          <a:xfrm>
            <a:off x="4195800" y="35607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39"/>
          <a:stretch/>
        </p:blipFill>
        <p:spPr>
          <a:xfrm>
            <a:off x="4643280" y="35258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"/>
          <p:cNvPicPr/>
          <p:nvPr/>
        </p:nvPicPr>
        <p:blipFill>
          <a:blip r:embed="rId40"/>
          <a:stretch/>
        </p:blipFill>
        <p:spPr>
          <a:xfrm>
            <a:off x="642960" y="40053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41"/>
          <a:stretch/>
        </p:blipFill>
        <p:spPr>
          <a:xfrm>
            <a:off x="1089000" y="40132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42"/>
          <a:stretch/>
        </p:blipFill>
        <p:spPr>
          <a:xfrm>
            <a:off x="1525680" y="401328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43"/>
          <a:stretch/>
        </p:blipFill>
        <p:spPr>
          <a:xfrm>
            <a:off x="2428920" y="39816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44"/>
          <a:stretch/>
        </p:blipFill>
        <p:spPr>
          <a:xfrm>
            <a:off x="3332160" y="39956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45"/>
          <a:stretch/>
        </p:blipFill>
        <p:spPr>
          <a:xfrm>
            <a:off x="3778200" y="400356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"/>
          <p:cNvPicPr/>
          <p:nvPr/>
        </p:nvPicPr>
        <p:blipFill>
          <a:blip r:embed="rId46"/>
          <a:stretch/>
        </p:blipFill>
        <p:spPr>
          <a:xfrm>
            <a:off x="4214880" y="400356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" descr=""/>
          <p:cNvPicPr/>
          <p:nvPr/>
        </p:nvPicPr>
        <p:blipFill>
          <a:blip r:embed="rId47"/>
          <a:stretch/>
        </p:blipFill>
        <p:spPr>
          <a:xfrm>
            <a:off x="4643280" y="40068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"/>
          <p:cNvPicPr/>
          <p:nvPr/>
        </p:nvPicPr>
        <p:blipFill>
          <a:blip r:embed="rId48"/>
          <a:stretch/>
        </p:blipFill>
        <p:spPr>
          <a:xfrm>
            <a:off x="650880" y="44784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49"/>
          <a:stretch/>
        </p:blipFill>
        <p:spPr>
          <a:xfrm>
            <a:off x="1096920" y="44877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"/>
          <p:cNvPicPr/>
          <p:nvPr/>
        </p:nvPicPr>
        <p:blipFill>
          <a:blip r:embed="rId50"/>
          <a:stretch/>
        </p:blipFill>
        <p:spPr>
          <a:xfrm>
            <a:off x="1992240" y="44784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"/>
          <p:cNvPicPr/>
          <p:nvPr/>
        </p:nvPicPr>
        <p:blipFill>
          <a:blip r:embed="rId51"/>
          <a:stretch/>
        </p:blipFill>
        <p:spPr>
          <a:xfrm>
            <a:off x="2436840" y="44877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52"/>
          <a:stretch/>
        </p:blipFill>
        <p:spPr>
          <a:xfrm>
            <a:off x="2874960" y="44877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"/>
          <p:cNvPicPr/>
          <p:nvPr/>
        </p:nvPicPr>
        <p:blipFill>
          <a:blip r:embed="rId53"/>
          <a:stretch/>
        </p:blipFill>
        <p:spPr>
          <a:xfrm>
            <a:off x="3760920" y="448164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54"/>
          <a:stretch/>
        </p:blipFill>
        <p:spPr>
          <a:xfrm>
            <a:off x="4206960" y="44895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55"/>
          <a:stretch/>
        </p:blipFill>
        <p:spPr>
          <a:xfrm>
            <a:off x="4643280" y="44895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56"/>
          <a:stretch/>
        </p:blipFill>
        <p:spPr>
          <a:xfrm>
            <a:off x="642960" y="49593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"/>
          <p:cNvPicPr/>
          <p:nvPr/>
        </p:nvPicPr>
        <p:blipFill>
          <a:blip r:embed="rId57"/>
          <a:stretch/>
        </p:blipFill>
        <p:spPr>
          <a:xfrm>
            <a:off x="1535040" y="49449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58"/>
          <a:stretch/>
        </p:blipFill>
        <p:spPr>
          <a:xfrm>
            <a:off x="1981080" y="49528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"/>
          <p:cNvPicPr/>
          <p:nvPr/>
        </p:nvPicPr>
        <p:blipFill>
          <a:blip r:embed="rId59"/>
          <a:stretch/>
        </p:blipFill>
        <p:spPr>
          <a:xfrm>
            <a:off x="2417760" y="49528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"/>
          <p:cNvPicPr/>
          <p:nvPr/>
        </p:nvPicPr>
        <p:blipFill>
          <a:blip r:embed="rId60"/>
          <a:stretch/>
        </p:blipFill>
        <p:spPr>
          <a:xfrm>
            <a:off x="2846520" y="495612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61"/>
          <a:stretch/>
        </p:blipFill>
        <p:spPr>
          <a:xfrm>
            <a:off x="3321000" y="49212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"/>
          <p:cNvPicPr/>
          <p:nvPr/>
        </p:nvPicPr>
        <p:blipFill>
          <a:blip r:embed="rId62"/>
          <a:stretch/>
        </p:blipFill>
        <p:spPr>
          <a:xfrm>
            <a:off x="4222800" y="495288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"/>
          <p:cNvPicPr/>
          <p:nvPr/>
        </p:nvPicPr>
        <p:blipFill>
          <a:blip r:embed="rId63"/>
          <a:stretch/>
        </p:blipFill>
        <p:spPr>
          <a:xfrm>
            <a:off x="4668840" y="496080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64"/>
          <a:stretch/>
        </p:blipFill>
        <p:spPr>
          <a:xfrm>
            <a:off x="1071720" y="543564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"/>
          <p:cNvPicPr/>
          <p:nvPr/>
        </p:nvPicPr>
        <p:blipFill>
          <a:blip r:embed="rId65"/>
          <a:stretch/>
        </p:blipFill>
        <p:spPr>
          <a:xfrm>
            <a:off x="1517760" y="544356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"/>
          <p:cNvPicPr/>
          <p:nvPr/>
        </p:nvPicPr>
        <p:blipFill>
          <a:blip r:embed="rId66"/>
          <a:stretch/>
        </p:blipFill>
        <p:spPr>
          <a:xfrm>
            <a:off x="1954080" y="544356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"/>
          <p:cNvPicPr/>
          <p:nvPr/>
        </p:nvPicPr>
        <p:blipFill>
          <a:blip r:embed="rId67"/>
          <a:stretch/>
        </p:blipFill>
        <p:spPr>
          <a:xfrm>
            <a:off x="2409840" y="54468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"/>
          <p:cNvPicPr/>
          <p:nvPr/>
        </p:nvPicPr>
        <p:blipFill>
          <a:blip r:embed="rId68"/>
          <a:stretch/>
        </p:blipFill>
        <p:spPr>
          <a:xfrm>
            <a:off x="2857680" y="541188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69"/>
          <a:stretch/>
        </p:blipFill>
        <p:spPr>
          <a:xfrm>
            <a:off x="3321000" y="542592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"/>
          <p:cNvPicPr/>
          <p:nvPr/>
        </p:nvPicPr>
        <p:blipFill>
          <a:blip r:embed="rId70"/>
          <a:stretch/>
        </p:blipFill>
        <p:spPr>
          <a:xfrm>
            <a:off x="3767040" y="54356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4" descr=""/>
          <p:cNvPicPr/>
          <p:nvPr/>
        </p:nvPicPr>
        <p:blipFill>
          <a:blip r:embed="rId71"/>
          <a:stretch/>
        </p:blipFill>
        <p:spPr>
          <a:xfrm>
            <a:off x="4632480" y="5437080"/>
            <a:ext cx="285480" cy="289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4" descr=""/>
          <p:cNvPicPr/>
          <p:nvPr/>
        </p:nvPicPr>
        <p:blipFill>
          <a:blip r:embed="rId72"/>
          <a:stretch/>
        </p:blipFill>
        <p:spPr>
          <a:xfrm>
            <a:off x="642960" y="590724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4" descr=""/>
          <p:cNvPicPr/>
          <p:nvPr/>
        </p:nvPicPr>
        <p:blipFill>
          <a:blip r:embed="rId73"/>
          <a:stretch/>
        </p:blipFill>
        <p:spPr>
          <a:xfrm>
            <a:off x="1089000" y="59166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4" descr=""/>
          <p:cNvPicPr/>
          <p:nvPr/>
        </p:nvPicPr>
        <p:blipFill>
          <a:blip r:embed="rId74"/>
          <a:stretch/>
        </p:blipFill>
        <p:spPr>
          <a:xfrm>
            <a:off x="1525680" y="5916600"/>
            <a:ext cx="285480" cy="2872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4" descr=""/>
          <p:cNvPicPr/>
          <p:nvPr/>
        </p:nvPicPr>
        <p:blipFill>
          <a:blip r:embed="rId75"/>
          <a:stretch/>
        </p:blipFill>
        <p:spPr>
          <a:xfrm>
            <a:off x="1954080" y="591804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"/>
          <p:cNvPicPr/>
          <p:nvPr/>
        </p:nvPicPr>
        <p:blipFill>
          <a:blip r:embed="rId76"/>
          <a:stretch/>
        </p:blipFill>
        <p:spPr>
          <a:xfrm>
            <a:off x="2428920" y="588312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4" descr=""/>
          <p:cNvPicPr/>
          <p:nvPr/>
        </p:nvPicPr>
        <p:blipFill>
          <a:blip r:embed="rId77"/>
          <a:stretch/>
        </p:blipFill>
        <p:spPr>
          <a:xfrm>
            <a:off x="2874960" y="5907240"/>
            <a:ext cx="285840" cy="28872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4" descr=""/>
          <p:cNvPicPr/>
          <p:nvPr/>
        </p:nvPicPr>
        <p:blipFill>
          <a:blip r:embed="rId78"/>
          <a:stretch/>
        </p:blipFill>
        <p:spPr>
          <a:xfrm>
            <a:off x="3321000" y="59166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4" descr=""/>
          <p:cNvPicPr/>
          <p:nvPr/>
        </p:nvPicPr>
        <p:blipFill>
          <a:blip r:embed="rId79"/>
          <a:stretch/>
        </p:blipFill>
        <p:spPr>
          <a:xfrm>
            <a:off x="3757680" y="591660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"/>
          <p:cNvPicPr/>
          <p:nvPr/>
        </p:nvPicPr>
        <p:blipFill>
          <a:blip r:embed="rId80"/>
          <a:stretch/>
        </p:blipFill>
        <p:spPr>
          <a:xfrm>
            <a:off x="4186080" y="5918040"/>
            <a:ext cx="285840" cy="2890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" descr=""/>
          <p:cNvPicPr/>
          <p:nvPr/>
        </p:nvPicPr>
        <p:blipFill>
          <a:blip r:embed="rId81"/>
          <a:stretch/>
        </p:blipFill>
        <p:spPr>
          <a:xfrm>
            <a:off x="7715160" y="2286000"/>
            <a:ext cx="571680" cy="287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" descr=""/>
          <p:cNvPicPr/>
          <p:nvPr/>
        </p:nvPicPr>
        <p:blipFill>
          <a:blip r:embed="rId82"/>
          <a:stretch/>
        </p:blipFill>
        <p:spPr>
          <a:xfrm>
            <a:off x="7786800" y="2651040"/>
            <a:ext cx="357120" cy="2890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"/>
          <p:cNvPicPr/>
          <p:nvPr/>
        </p:nvPicPr>
        <p:blipFill>
          <a:blip r:embed="rId83"/>
          <a:stretch/>
        </p:blipFill>
        <p:spPr>
          <a:xfrm>
            <a:off x="7358040" y="3000240"/>
            <a:ext cx="357120" cy="287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4" descr=""/>
          <p:cNvPicPr/>
          <p:nvPr/>
        </p:nvPicPr>
        <p:blipFill>
          <a:blip r:embed="rId84"/>
          <a:stretch/>
        </p:blipFill>
        <p:spPr>
          <a:xfrm>
            <a:off x="5143680" y="4008600"/>
            <a:ext cx="3876480" cy="11808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5" descr=""/>
          <p:cNvPicPr/>
          <p:nvPr/>
        </p:nvPicPr>
        <p:blipFill>
          <a:blip r:embed="rId85"/>
          <a:stretch/>
        </p:blipFill>
        <p:spPr>
          <a:xfrm>
            <a:off x="7358040" y="5857920"/>
            <a:ext cx="6573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1" descr=""/>
          <p:cNvPicPr/>
          <p:nvPr/>
        </p:nvPicPr>
        <p:blipFill>
          <a:blip r:embed="rId1"/>
          <a:stretch/>
        </p:blipFill>
        <p:spPr>
          <a:xfrm>
            <a:off x="500040" y="1671480"/>
            <a:ext cx="6953400" cy="34005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" descr=""/>
          <p:cNvPicPr/>
          <p:nvPr/>
        </p:nvPicPr>
        <p:blipFill>
          <a:blip r:embed="rId2"/>
          <a:stretch/>
        </p:blipFill>
        <p:spPr>
          <a:xfrm>
            <a:off x="2374920" y="2768760"/>
            <a:ext cx="4286160" cy="4856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"/>
          <p:cNvPicPr/>
          <p:nvPr/>
        </p:nvPicPr>
        <p:blipFill>
          <a:blip r:embed="rId3"/>
          <a:stretch/>
        </p:blipFill>
        <p:spPr>
          <a:xfrm>
            <a:off x="928800" y="3260880"/>
            <a:ext cx="5076720" cy="3524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"/>
          <p:cNvPicPr/>
          <p:nvPr/>
        </p:nvPicPr>
        <p:blipFill>
          <a:blip r:embed="rId4"/>
          <a:stretch/>
        </p:blipFill>
        <p:spPr>
          <a:xfrm>
            <a:off x="4000680" y="40719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"/>
          <p:cNvPicPr/>
          <p:nvPr/>
        </p:nvPicPr>
        <p:blipFill>
          <a:blip r:embed="rId5"/>
          <a:stretch/>
        </p:blipFill>
        <p:spPr>
          <a:xfrm>
            <a:off x="5207040" y="40719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"/>
          <p:cNvPicPr/>
          <p:nvPr/>
        </p:nvPicPr>
        <p:blipFill>
          <a:blip r:embed="rId6"/>
          <a:stretch/>
        </p:blipFill>
        <p:spPr>
          <a:xfrm>
            <a:off x="3232080" y="44290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4" descr=""/>
          <p:cNvPicPr/>
          <p:nvPr/>
        </p:nvPicPr>
        <p:blipFill>
          <a:blip r:embed="rId7"/>
          <a:stretch/>
        </p:blipFill>
        <p:spPr>
          <a:xfrm>
            <a:off x="3429000" y="4775040"/>
            <a:ext cx="357120" cy="289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"/>
          <p:cNvPicPr/>
          <p:nvPr/>
        </p:nvPicPr>
        <p:blipFill>
          <a:blip r:embed="rId8"/>
          <a:stretch/>
        </p:blipFill>
        <p:spPr>
          <a:xfrm>
            <a:off x="6500880" y="4749840"/>
            <a:ext cx="5000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1" descr=""/>
          <p:cNvPicPr/>
          <p:nvPr/>
        </p:nvPicPr>
        <p:blipFill>
          <a:blip r:embed="rId1"/>
          <a:stretch/>
        </p:blipFill>
        <p:spPr>
          <a:xfrm>
            <a:off x="3814920" y="1647720"/>
            <a:ext cx="1514160" cy="42102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4" descr=""/>
          <p:cNvPicPr/>
          <p:nvPr/>
        </p:nvPicPr>
        <p:blipFill>
          <a:blip r:embed="rId2"/>
          <a:stretch/>
        </p:blipFill>
        <p:spPr>
          <a:xfrm>
            <a:off x="4919760" y="2446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4" descr=""/>
          <p:cNvPicPr/>
          <p:nvPr/>
        </p:nvPicPr>
        <p:blipFill>
          <a:blip r:embed="rId3"/>
          <a:stretch/>
        </p:blipFill>
        <p:spPr>
          <a:xfrm>
            <a:off x="4822920" y="28368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"/>
          <p:cNvPicPr/>
          <p:nvPr/>
        </p:nvPicPr>
        <p:blipFill>
          <a:blip r:embed="rId4"/>
          <a:stretch/>
        </p:blipFill>
        <p:spPr>
          <a:xfrm>
            <a:off x="4911840" y="3247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4" descr=""/>
          <p:cNvPicPr/>
          <p:nvPr/>
        </p:nvPicPr>
        <p:blipFill>
          <a:blip r:embed="rId5"/>
          <a:stretch/>
        </p:blipFill>
        <p:spPr>
          <a:xfrm>
            <a:off x="4911840" y="3676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"/>
          <p:cNvPicPr/>
          <p:nvPr/>
        </p:nvPicPr>
        <p:blipFill>
          <a:blip r:embed="rId6"/>
          <a:stretch/>
        </p:blipFill>
        <p:spPr>
          <a:xfrm>
            <a:off x="4910040" y="40878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7"/>
          <a:stretch/>
        </p:blipFill>
        <p:spPr>
          <a:xfrm>
            <a:off x="4832280" y="4516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8"/>
          <a:stretch/>
        </p:blipFill>
        <p:spPr>
          <a:xfrm>
            <a:off x="4910040" y="4890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9"/>
          <a:stretch/>
        </p:blipFill>
        <p:spPr>
          <a:xfrm>
            <a:off x="4932360" y="531972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25:49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